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F1C-4F6D-44DA-9B4F-58A76434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2F7-1B93-4E64-8FFA-7A369A4A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4EA-4223-4A46-9970-57DFB798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DCA8-BAF7-4BD6-80AE-1EB0BF4B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09FB-0F8C-443D-9B08-F6D26EA3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05F6-FB05-40B4-93F3-7A40EC00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5F28-0479-4D6E-9F70-392E79DF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0640-EDF5-420A-9E69-24CB663C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0E2B-5D47-4D33-A3EC-9E848664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1368-5A37-4D5E-8F2C-312AD295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6E4F-00E4-4662-A810-FC47F6B0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B24-3BE4-418F-9FFA-31146BDE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141E-3156-4E2B-BED0-8CF6F41E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6ECA-6921-4A01-8587-A19E93F7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CEFB-124B-46BB-8527-258F2A11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8E1B-5263-49DF-818E-2AD47EA1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FB96-4284-492C-811F-DDC80B51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CB2F-F533-4763-B6A3-39F16170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DEB3-457C-4734-AF7A-7D5D3BB2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52C-CD23-4478-B340-3B5E4E90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38F-2EA7-4277-8193-ADCC12E4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CAD8-D73D-4EDA-92D4-0022E947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F78-4D5F-43F1-B861-02B76490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66C-3930-40E3-923C-43471BB6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A555-E378-4A51-90D0-795D7C49AC95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7036-E54F-4C2B-9CCF-8CF3CA7F90D3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esktoprating.com/wallpapers/green-guitar-wallpaper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9400" y="160200"/>
            <a:ext cx="7848720" cy="227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6666"/>
                </a:solidFill>
                <a:latin typeface="Arial"/>
              </a:rPr>
              <a:t>Interfenţa undelor mecanice. Unde staţionare. Aplicaţi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2590920"/>
            <a:ext cx="777240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rezentare  - evaluare ini</a:t>
            </a:r>
            <a:r>
              <a:rPr b="1" lang="ro-RO" sz="2400" spc="-1" strike="noStrike">
                <a:solidFill>
                  <a:srgbClr val="800000"/>
                </a:solidFill>
                <a:latin typeface="Times New Roman"/>
              </a:rPr>
              <a:t>ţial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rof. Berian Sergi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iceul Teologic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Baptist </a:t>
            </a:r>
            <a:r>
              <a:rPr b="0" lang="ro-RO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„Emanuel” Orad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9044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838080" y="1828800"/>
            <a:ext cx="780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196666"/>
                </a:solidFill>
                <a:latin typeface="Times New Roman"/>
              </a:rPr>
              <a:t>Cum a influenţat studiul undelor evoluţia umanităţi</a:t>
            </a:r>
            <a:r>
              <a:rPr b="1" lang="en-US" sz="2800" spc="-1" strike="noStrike">
                <a:solidFill>
                  <a:srgbClr val="196666"/>
                </a:solidFill>
                <a:latin typeface="Times New Roman"/>
              </a:rPr>
              <a:t>i 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85800" y="3581280"/>
            <a:ext cx="7808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i="1" lang="ro-RO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Cum ne afectează cutremurele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În ce măsură există în jurul nostru fenomene ondulatorii şi de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c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âte feluri sunt acestea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Cum se produc sunetele şi în ce mod le auzim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Times New Roman"/>
              </a:rPr>
              <a:t>Care e efectul ultrasunetelor şi infrasunetelor asupra noastră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609480" y="1763640"/>
            <a:ext cx="82789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. În timpul propagării unei unde mecanice are loc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atât transport de energie cât şi transport de substanţă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transport de energie, fără transport de substanţă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transport de substanţă, fără transport de energi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2. Daţi trei exemple de fenomene ondulatorii din natură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Consideraţii generale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312840" y="4424400"/>
            <a:ext cx="2492280" cy="1938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3048120" y="4421160"/>
            <a:ext cx="2598480" cy="1949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6019920" y="4363920"/>
            <a:ext cx="219708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380880" y="1523880"/>
            <a:ext cx="8763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990720" y="990720"/>
            <a:ext cx="71755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Tipuri de unde. Lungimea de undă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839880" y="2720880"/>
            <a:ext cx="3429000" cy="1446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6018120" y="249876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685800" y="1763640"/>
            <a:ext cx="82026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3. După orientarea oscilaţiilor în raport cu direcţia de propagare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există două tipuri de unde. Care sunt acestea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4. Lungimea de undă est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distanţa până la care unda ajunge la un moment dat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distanţa parcursă de undă într-un timp egal cu perioad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cil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ţie a sursei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distanţa parcursă de undă în unitatea de timp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Viteza de propagare a undei (1)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533520" y="1600200"/>
            <a:ext cx="838188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85800" y="1763640"/>
            <a:ext cx="820260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5. Formula corectă a lungimii de undă, în funcţie de frecvenţa sursei şi viteza de propagare a undei, est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2"/>
              <p:cNvSpPr txBox="1"/>
              <p:nvPr/>
            </p:nvSpPr>
            <p:spPr>
              <a:xfrm>
                <a:off x="1036800" y="2598840"/>
                <a:ext cx="8362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4"/>
              <p:cNvSpPr txBox="1"/>
              <p:nvPr/>
            </p:nvSpPr>
            <p:spPr>
              <a:xfrm>
                <a:off x="2932200" y="2585880"/>
                <a:ext cx="8096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6"/>
              <p:cNvSpPr txBox="1"/>
              <p:nvPr/>
            </p:nvSpPr>
            <p:spPr>
              <a:xfrm>
                <a:off x="4691160" y="2751120"/>
                <a:ext cx="1143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Rectangle 3"/>
          <p:cNvSpPr/>
          <p:nvPr/>
        </p:nvSpPr>
        <p:spPr>
          <a:xfrm>
            <a:off x="609480" y="4800600"/>
            <a:ext cx="82026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8" descr=""/>
          <p:cNvPicPr/>
          <p:nvPr/>
        </p:nvPicPr>
        <p:blipFill>
          <a:blip r:embed="rId1"/>
          <a:stretch/>
        </p:blipFill>
        <p:spPr>
          <a:xfrm>
            <a:off x="5931000" y="2658960"/>
            <a:ext cx="2781360" cy="2205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534960" y="4689360"/>
            <a:ext cx="820260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6. Viteza de propagare a unei unde longitudinale se calculează după formul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9"/>
              <p:cNvSpPr txBox="1"/>
              <p:nvPr/>
            </p:nvSpPr>
            <p:spPr>
              <a:xfrm>
                <a:off x="6564240" y="5276880"/>
                <a:ext cx="9478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1"/>
              <p:cNvSpPr txBox="1"/>
              <p:nvPr/>
            </p:nvSpPr>
            <p:spPr>
              <a:xfrm>
                <a:off x="925560" y="5278320"/>
                <a:ext cx="9730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3649680" y="5472000"/>
                <a:ext cx="12175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Viteza de propagare a undei (2)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533520" y="1600200"/>
            <a:ext cx="838188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7. O undă longitudinală cu frecvenţa de 500 Hz se propagă într-un mediu elastic al cărui modul de elasticitate este E = 4,23</a:t>
            </a:r>
            <a:r>
              <a:rPr b="0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o-RO" sz="2400" spc="-1" strike="noStrike" baseline="30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N/m</a:t>
            </a:r>
            <a:r>
              <a:rPr b="0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 Densitatea mediului are valoarea de 2700 kg/m</a:t>
            </a:r>
            <a:r>
              <a:rPr b="0" lang="ro-RO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 Valoarea lungimii de undă est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4 m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6 m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8 m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. 10 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33520" y="4114800"/>
            <a:ext cx="82026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8. Viteza de propagare a unei unde transversale într-o coardă elastică se calculează după formul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6311880" y="4915080"/>
                <a:ext cx="9460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1"/>
              <p:cNvSpPr txBox="1"/>
              <p:nvPr/>
            </p:nvSpPr>
            <p:spPr>
              <a:xfrm>
                <a:off x="833400" y="4892760"/>
                <a:ext cx="9540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3"/>
              <p:cNvSpPr txBox="1"/>
              <p:nvPr/>
            </p:nvSpPr>
            <p:spPr>
              <a:xfrm>
                <a:off x="3622680" y="5094360"/>
                <a:ext cx="1257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Difracţia undelor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6002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9. Difracţia undelor se explică cu ajutorul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. reflexiei;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b. refracţiei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. principiului Huygens-Fresnel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623880" y="3408480"/>
            <a:ext cx="2176560" cy="270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2755800" y="3403440"/>
            <a:ext cx="2192400" cy="273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3"/>
          <a:stretch/>
        </p:blipFill>
        <p:spPr>
          <a:xfrm>
            <a:off x="4548240" y="3484440"/>
            <a:ext cx="39909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Reflexia şi refracţia undelor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33520" y="16002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762120" y="1676520"/>
            <a:ext cx="754380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7621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0. Ce legătură există între reflexia undelor sonore şi ecou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1. Influenţează refracţia ultrasunetelor calitatea imaginii ecografice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12. Cum ajută reflexia undelor la orientarea liliacului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3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3738600" cy="2438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9" descr=""/>
          <p:cNvPicPr/>
          <p:nvPr/>
        </p:nvPicPr>
        <p:blipFill>
          <a:blip r:embed="rId2"/>
          <a:stretch/>
        </p:blipFill>
        <p:spPr>
          <a:xfrm>
            <a:off x="4572000" y="3886200"/>
            <a:ext cx="3886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14200" y="1039680"/>
            <a:ext cx="8915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800000"/>
                </a:solidFill>
                <a:latin typeface="Times New Roman"/>
              </a:rPr>
              <a:t>Bibliografie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33520" y="16002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62120" y="1676520"/>
            <a:ext cx="754380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621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609480" y="1905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Hristev, A., Mecanică şi acustică, Ed. Didactică şi Pedagogică, Bucureşti, 1982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Hristev, A., Probleme de fizică pentru clasele IX-X, Ed. Didactică şi Pedagogică, Bucureşti, 1983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Ionescu-Andrei, R., Onea, C., Toma, I., Manual de fizică pentru clasa a XI-a, Ed. Art, Bucureşti, 2008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www.desktoprating.com/wallpapers/green-guitar-wallpaper.ht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medishop.ro/product--Ecograf-doppler-color-portabil-Mindray-M5--192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izica.ro/textbooks/fizica11/html/1c3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izica.ro/textbooks/fizica11/html/1c10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cientia.ro/stiinta-la-minut/53-scintilatii-stiintifice/140-cum-se-formeaza-curcubeul.htm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3:58:23Z</dcterms:created>
  <dc:creator>Sergiu</dc:creator>
  <dc:description/>
  <dc:language>en-US</dc:language>
  <cp:lastModifiedBy>Eu</cp:lastModifiedBy>
  <dcterms:modified xsi:type="dcterms:W3CDTF">2010-11-27T17:55:47Z</dcterms:modified>
  <cp:revision>400</cp:revision>
  <dc:subject/>
  <dc:title>Evaluare_initiala</dc:title>
</cp:coreProperties>
</file>